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7D8-2BD9-45CF-96D3-5FC03C6F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8C9-1F86-45E0-BFDC-ECF5405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EC0-9883-404C-8F46-249F399A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FDC-6F47-4E97-842E-ECF6C22C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D8E-39B8-480C-B118-3E1C5F8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64A-CC9E-404D-8196-AE722C66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BA6-6211-49E5-BD47-EC31A2A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B29-8710-4F26-9C02-7659DF4E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7AE-AC76-46B8-8DE9-066523D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84D-B781-4FD0-8BEC-3440884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3AC-A8DD-461E-94B8-76B262F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F3E-C74F-4E6A-ADA2-5D71F18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2B6-812B-4762-948C-3F24B2FDD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0;&#1086;&#1085;&#1092;&#1080;&#1089;&#1082;&#1072;&#1094;&#1080;&#1086;&#1085;&#1085;&#1072;&#1103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9600" y="114300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приведённое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5"/>
          <a:stretch/>
        </p:blipFill>
        <p:spPr>
          <a:xfrm>
            <a:off x="1071720" y="2857680"/>
            <a:ext cx="247644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6"/>
          <a:stretch/>
        </p:blipFill>
        <p:spPr>
          <a:xfrm>
            <a:off x="6143760" y="285768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71760" y="3714840"/>
            <a:ext cx="809640" cy="476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3"/>
          <p:cNvSpPr/>
          <p:nvPr/>
        </p:nvSpPr>
        <p:spPr>
          <a:xfrm>
            <a:off x="1428840" y="3500280"/>
            <a:ext cx="128592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8"/>
          <a:stretch/>
        </p:blipFill>
        <p:spPr>
          <a:xfrm>
            <a:off x="6858000" y="3714840"/>
            <a:ext cx="100980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8"/>
          <p:cNvSpPr/>
          <p:nvPr/>
        </p:nvSpPr>
        <p:spPr>
          <a:xfrm>
            <a:off x="6786720" y="3500280"/>
            <a:ext cx="12855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06Z</dcterms:created>
  <dc:creator>Admin</dc:creator>
  <dc:description/>
  <dc:language>en-US</dc:language>
  <cp:lastModifiedBy>Admin</cp:lastModifiedBy>
  <dcterms:modified xsi:type="dcterms:W3CDTF">2004-01-01T00:17:29Z</dcterms:modified>
  <cp:revision>2</cp:revision>
  <dc:subject/>
  <dc:title>Слайд 1</dc:title>
</cp:coreProperties>
</file>